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944-FF16-4214-9FE9-6A4E7F25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27D-5117-4638-A6D2-939F97C7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8EE-F40E-4691-A22A-0C802BEA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841-02D3-48C2-8FCA-57FE368E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945-545E-4C3C-8D52-8FD1C5B2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2F8-ED2B-4865-88DA-F04A6027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D66-6691-447B-A623-035DF622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052-DD46-440C-B88D-FDFF4D85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1D5-65BF-402E-B6CB-863ABFC3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2CB-FC85-4149-A89B-62726EE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AD0-304F-458F-9AAF-9E9C43F3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74E-A923-4FAE-A87B-0A7746BC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EC7C-5FBF-4DD7-92C1-F127E21390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F4B1-5421-493D-A44C-2831E9223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905120"/>
            <a:ext cx="685800" cy="1143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952200" y="2247840"/>
            <a:ext cx="771480" cy="390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B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O SOL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85800"/>
            <a:ext cx="2171880" cy="400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NS MI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GOAL FOR STUDENT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1066680"/>
            <a:ext cx="45720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. CURRICULUM &amp;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3962520"/>
            <a:ext cx="34290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ERFORMANCE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. STUDENT PERFORMANC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. STUDENT META-COGN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5181480"/>
            <a:ext cx="822960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UNDATION OF INTERNAL AND EXTERN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. PROFESSIONAL LEARNING, SUPERVISION &amp;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6. EQUITABLE SUPPORT FOR STUDENT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7.  SHARED VISION &amp; ENVIRONMENT FOR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. PARENT AND COMMUNITY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S Model Based On The Tri-State Model For Improving Student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04920"/>
            <a:ext cx="5791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RTH SALEM/TRI-STATE MODEL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ROVING STUDEN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1447920"/>
            <a:ext cx="3962160" cy="281916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643320 h 2819160"/>
              <a:gd name="textAreaBottom" fmla="*/ 217584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gage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TUDENTS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 continuously learn, question, define and solve problems through critical and creative th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121932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772400" y="144756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66880" y="44956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572000" y="4495320"/>
            <a:ext cx="0" cy="68580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6095880"/>
            <a:ext cx="1600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raphic by Mike Hibb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064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3392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ACTUAL LEVEL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STUDENT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 rot="5400000">
            <a:off x="828000" y="2371680"/>
            <a:ext cx="114300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blem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2019240" cy="1981080"/>
          </a:xfrm>
          <a:prstGeom prst="upDownArrow">
            <a:avLst>
              <a:gd name="adj1" fmla="val 61324"/>
              <a:gd name="adj2" fmla="val 19968"/>
            </a:avLst>
          </a:prstGeom>
          <a:solidFill>
            <a:srgbClr val="ff99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981080"/>
            <a:ext cx="10666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THE GAP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19810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981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64F-E4DD-4CC3-9F57-416F1E029FC1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B9613-FF8C-450D-958F-60E71D3545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7-07T13:51:16Z</dcterms:modified>
  <cp:revision>1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